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8AE-FA4E-489F-AF0D-383BF252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813-76A0-4BC7-ABE8-51C152F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EC6-F50F-481B-A7D0-6E9C1FFB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B7E-AEA3-4900-A791-E8AD20D8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C6EF-8651-47DB-A988-868623C8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BDBC-2555-402C-B235-6B7BB46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CF7-F236-4A6E-98F2-F5A94D02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6AB5-29C9-49A5-970C-93A4F807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C6DF-C8B2-48AA-AB2D-FE008F6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CBE9-AD66-4B34-B278-2DC6BF7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9806-305A-4882-B022-3D1D1FD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E22-BDAB-4D0D-AFAE-B35238F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580-88C5-4E86-B966-CB262EB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C171-4435-430B-AC65-F2E3FBAA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C072-271E-4A1E-9C7A-B1B3A64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455B-59E1-45B4-B1CC-8D0711EF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5D34-14C1-4DC2-A9A1-8F8D01C4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A1D-99CD-421E-9099-2DC24EC0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FD8-28E1-4A21-88AF-AE67EA3D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A90-6030-4478-818E-0A6A9087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E89-BDE9-40E0-B60E-4045C0DF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529-7FE5-4F85-BDBE-C44CA3E0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382-C624-47D5-8ED9-F325AB4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BEF-0EFD-4AE0-A947-64F5BBF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7B1E-374E-42E3-AD32-9B2078D38565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8EAB-AD30-4A4F-83A1-59CF8FDB43BF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esson14   Dress and H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制作人：黄芳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　　　　　　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 Learn  the  words  and  expressions by  hear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   Finish  off  the  exercises  of  activity 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343400" y="1523880"/>
            <a:ext cx="2971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843440" cy="184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aching aim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77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udy some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ress  coat   hat  big  small  whose  too  s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Useful   ex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 is  it ?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  it  big or  smal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ose  hat /dress / coat is thi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t’s  too  small /big  for 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What  is  it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63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270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41452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   big    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    small   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82800">
            <a:off x="6534360" y="-263160"/>
            <a:ext cx="1078200" cy="2413080"/>
          </a:xfrm>
          <a:prstGeom prst="cloudCallout">
            <a:avLst>
              <a:gd name="adj1" fmla="val -46254"/>
              <a:gd name="adj2" fmla="val 6987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s it  big or sm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1989000"/>
            <a:ext cx="93636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se______is   this  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Ms.  Li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:  Whose   hat  is  this  ? Is  this  your  hat ,  Danny 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66ff66"/>
                </a:solidFill>
                <a:latin typeface="Tahoma"/>
              </a:rPr>
              <a:t>Dann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 No, Ms. Liu .  It’s  too big /small   for   me.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2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se  dress  is  this ?  Is this  you  dress ,  Danny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! It’s  too  small  for  me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Yes, Danny.  I  se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521080" cy="220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Ⅰ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翻译下面短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件新毛衣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件旧衬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个大苹果　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条小裙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只红帽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9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new  sw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n  old  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big   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07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small    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a   red  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Ⅱ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做对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 a  dialogue  by  using  “hat  / dress / coat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 the  dialogue they  m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3:42:52Z</dcterms:created>
  <dc:creator>slq</dc:creator>
  <dc:description/>
  <dc:language>en-US</dc:language>
  <cp:lastModifiedBy>slq</cp:lastModifiedBy>
  <dcterms:modified xsi:type="dcterms:W3CDTF">2006-09-03T08:09:11Z</dcterms:modified>
  <cp:revision>2</cp:revision>
  <dc:subject/>
  <dc:title>Lesson14   Dress and Hat</dc:title>
</cp:coreProperties>
</file>